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768C-8B34-49D8-BF8B-D8C05238B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040E-E24A-4913-A727-6E4BFC8E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F5CE-23DD-40FA-9CB5-202490E8F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DBF3-EF93-4071-A4A4-C8BFF60A6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4F65-8BD4-4401-AAB8-CFAD3C229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8E3F-A0E3-4FBC-BC78-8ECE86CA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E063-EDF6-4D24-936C-02FAF931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07916-399A-4891-8896-90E17084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DCC9-039A-45EB-88A0-F6685898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21F6-1F0A-408C-83A1-2E0EF3EA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5D7A-926B-4EEE-A7D3-3BCD6F6D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90E2-8EEB-4090-A015-91E9B673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A8A8-FE08-4100-832C-67BA85DA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5EDF5-96B9-44F1-BEE4-6C0AA519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954D-DE59-46C5-AD8A-182D7855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012F-6E89-4FA4-8BE2-846F40712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3928-764C-447D-91C7-7D3078562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36C7-A7D6-4234-B659-DA64D5F5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3EFF-E710-4BBC-BA1A-201652D9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370D-96D2-4565-9214-62DDAA4A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7C93-F444-41C1-9828-0A285646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E66D-34BE-4D57-91F0-A6DCA052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AFAE-4CE3-4B91-B8F0-A6D5A217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523A-1EA8-4139-A0E5-695094B2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C116-45B5-450D-85F9-77314419D3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0159-EADE-43EA-8D69-8526FFEF7F5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O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to retire buy 2030 on todays equivalent of 2000 a month workers have to set aside 8000 a year starting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ovinci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315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ners or beliefs considered unsophisticated and naï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95280" y="2895480"/>
            <a:ext cx="472464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mula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keness or model, fe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219320" y="2971800"/>
            <a:ext cx="6400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ranscen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ise above or go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895480" y="3657600"/>
            <a:ext cx="28958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mbrag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781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nse, displeasure, doubt or hos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50292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nctuou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ing excessive self-righteousness or smug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429000" y="312408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Vocabulary Practice-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your vocabulary war sentence. Use 5 of the words in one sentence that makes sense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ly we get a reference to what the title means. Why is it a sin to kill a mockingbird? How could this function as a metaph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are the children a little disappointed and a little ashamed of Atticus compared to other fath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uses Cal to run to the neighbors banging on do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Atticus do that surprises the children and makes them realize they don’t know everything about hi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es Jem say that they should not tell anyone at school about this incid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icus-One of the most famous characters in American Literature. He acts as a sort of moral compass in the novel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ment: Find one quote from at l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 different chapters that shows what kind of man Atticus is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            Quote                Personality Tr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95280" y="4191120"/>
            <a:ext cx="6019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hapters 11 and 12 for home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to retire by 2030 on today’s equivalent of $2,000 a month, workers have to set aside $8000 a year starting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right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o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cused Freewri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r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forgot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ed hatefu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Vocabulary Unit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sentence if it doesn’t include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ade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n-out or we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114800" y="3429000"/>
            <a:ext cx="32338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uri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uesome, horrible or revol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spaper gave all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ur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tails of the cr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ritoriou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erving praise, reward or este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14600" y="2971800"/>
            <a:ext cx="3962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etul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3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ing impatient irritation, especially over something min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gave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etul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ss of her h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048120" y="3657600"/>
            <a:ext cx="380988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erogati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clusive rig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her prerogative to choose the first song at the d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04:41:43Z</dcterms:created>
  <dc:creator>Angie</dc:creator>
  <dc:description/>
  <dc:language>en-US</dc:language>
  <cp:lastModifiedBy>Angie</cp:lastModifiedBy>
  <dcterms:modified xsi:type="dcterms:W3CDTF">2009-02-10T05:12:40Z</dcterms:modified>
  <cp:revision>3</cp:revision>
  <dc:subject/>
  <dc:title>DOL</dc:title>
</cp:coreProperties>
</file>